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F02-9786-40B9-90B5-24C9606C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382-9C5A-47A8-8C78-10843438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A6B-1893-4E94-83B9-D479874E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B90-3DB5-44AE-AA7D-BF675FF8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66A-A18B-43CE-8213-7D8247E9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8A6-6A6A-4E7E-A58C-016E4DCD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ED9-5102-4A61-8ED8-93F394E7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2C2-326E-490C-A67B-FE577A9A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61B-A25B-4514-B3FA-55CEA625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626-CAF3-4A3B-A58C-3A6C90A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703-11C5-4695-B35B-00F24FE1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2D0-0B2D-4130-BF22-B372F991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EA8E-85AF-45FE-98DF-42350FFDD24D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ubtítulo 2"/>
          <p:cNvSpPr/>
          <p:nvPr/>
        </p:nvSpPr>
        <p:spPr>
          <a:xfrm>
            <a:off x="179280" y="1481040"/>
            <a:ext cx="882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ESCOLA ESTADUAL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EDUARDO BATISTA AMORI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PROGETEC: RAFAEL SANTOS DA CRUZ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GED – NTE REGIONA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RIBAS DO RIO PARDO – 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ossibilidades de avaliação com uso das TIC na sua esco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Montar apresentação de seminário utilizando o editor de apresentaçõ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dução de texto utilizando o Editor de text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Construções de gráficos e tabelas de um determinado tema com a utilização do Editor de planilha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Criação de apresentações em formas de vídeo, utilizando editores.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Descrição de duas situações de avaliação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que ocorreu na escola com o uso das TIC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Seminário: Começando com a pesquisa na sala de tecnologia e depois a criação da apresentação em forma de slide utilizando o Editor de Apresentações do Linux Educacional 5.0. E finalizando o trabalho com a apresentação para a turma utilizando o data show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Produção de Vídeo: Fazendo uma gravação de vídeo em forma de paródia de um determinado tema. Depois de fazer a gravação, os alunos editarão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O professor pode avaliar usando os seguintes recursos tecnológico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dução de texto utilizando o editor disponível no computado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presentação de seminário, que vai da pesquisa na internet até a montagem dos slides no editor de apresentaçã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dução de vídeos avaliativos, começando pela gravação até a edição fin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Responder questionários referente a um determinado tema em forma de QUIS ou questões onlin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22:34:52Z</dcterms:created>
  <dc:creator>RIRA_RAFAEL</dc:creator>
  <dc:description/>
  <dc:language>en-US</dc:language>
  <cp:lastModifiedBy>RIRA_RAFAEL</cp:lastModifiedBy>
  <dcterms:modified xsi:type="dcterms:W3CDTF">2015-09-01T01:43:30Z</dcterms:modified>
  <cp:revision>19</cp:revision>
  <dc:subject/>
  <dc:title>Slide 1</dc:title>
</cp:coreProperties>
</file>